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6640" y="750600"/>
            <a:ext cx="4946760" cy="370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38E3-5777-4180-90F3-E3F18683B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A895-448A-4B7D-A8A4-1C1794756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D12C-B11E-401D-B591-A5D8B4985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D07F-B330-4C4D-A108-AF6596186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B66A6-64BC-49AD-8FF6-A18F4534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7BA9C-FEB3-45E3-AD52-E55EA731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5F31B-9485-44ED-9BAD-FB7B0F7B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161CF-311A-40AA-94FA-EC6C2835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06F5A-E895-4311-AA6A-FFF229A5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21434-CF51-4FFE-B456-B4E16CA2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262F5-8D31-4E9E-BBBC-748941AD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B644-7A53-4604-8FD4-CBF8EC88A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5B54F-6D4C-460D-9619-53FA430E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7E81D-E783-4C17-A3BA-DD009FF0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3A8CF-2DC9-4B8B-BD55-35C0B8DD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098FB-0953-498B-BC62-F4C2F9D4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6CA42-93FE-4C4A-9B81-DA752EFD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F8BF-0D6F-4C77-B122-92B9B5CF2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2B71-F267-485F-B5D8-1D806A662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EF80-F930-492A-BDE8-FE8CFFC52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CFCE-D3D5-4B26-8802-B0DA611EA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0C03-28AF-4EC3-AEA4-08E5A013A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2251-B1E3-43C2-8D9D-57CF0E782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AD98-CBEE-463D-BFA7-E950EC4E3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6000" y="62370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1B47-A14F-41FA-A2C8-8FFB6A586BAE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5e574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5e574e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7236000" y="62370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71D9-A621-4B5D-9777-B7F2C5020169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0000"/>
              </a:buClr>
              <a:buFont typeface="Arial"/>
              <a:buChar char="+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00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William Stalling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Computer Organization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and Architectur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 Rounded MT Bold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76183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Chapter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struction S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ressing Modes and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Addressing (2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No memory a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Very fast exec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Very limited address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Multiple registers helps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quires good assembly programming or compiler wri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N.B. C programm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int 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c.f. Direct addr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095A-7760-4D43-8D37-81513C6905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Address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24000" y="1557360"/>
          <a:ext cx="48960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48960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BF81-D6FE-4BDE-8C6F-C2B62442792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Indirect Addressing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C.f. indirect addr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(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perand is in memory cell pointed to by contents of register 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arge address space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Rounded MT Bold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ne fewer memory access than indirect addr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0819-0E0A-4BCE-A00D-EEAB568898A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Indirect Addressing Diagram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0920" y="1773360"/>
          <a:ext cx="457992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773360"/>
                    <a:ext cx="457992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29F2-40EF-41D4-8B9F-723F4D092D7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isplacement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A + (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ffective address=start address + dis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ffective address=Offset + (Segment Regist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Use direct and register indir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ress field hold two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 = base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 = register that holds dis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r vice ver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B8CC-BEBC-4C2C-854B-9A79B125BDD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isplacement Address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124000" y="1773360"/>
          <a:ext cx="44499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773360"/>
                    <a:ext cx="44499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DC46-4B5A-49E8-A065-B6F8BF3BDBD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lative Addressing (PC-Rela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 version of displacement addr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 = Program counter, 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A + (P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.e. get operand from A cells from current location pointed to by 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c.f locality of reference &amp; cache us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9BFE-2BCC-4F00-B9A1-46B10CD33AA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Base-Register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 holds displac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(CS) +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 holds pointer to base add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 may be explicit or implic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.g. segment registers in 80x8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3E48-BAF2-4BCF-82FD-98730CBB816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dexed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 = 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 = displac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A + (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Good for accessing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A + (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+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E1C2-292C-4D52-BCE9-1B25D54B11B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56000" y="1052640"/>
            <a:ext cx="6588000" cy="5349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Combin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328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Post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(A) + (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Pre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(A+(R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DDD3-BB0B-41ED-BE82-191738FF4BB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ressing M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mmedi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ir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dir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Indir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Displacement (Indexed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9242-268A-44E9-8A3B-68E0A55ADAD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Stack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4716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perand is (implicitly) on top of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.g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Pop top two items from stack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nd add and pu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376880" y="2857680"/>
          <a:ext cx="386208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6880" y="2857680"/>
                    <a:ext cx="38620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CF29-C42D-4400-AD30-D5B52897BFD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 Rounded MT Bold"/>
              <a:ea typeface="新細明體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2192400"/>
          <a:ext cx="817884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92400"/>
                    <a:ext cx="817884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E41A-70FD-4232-9309-0FA97A900F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entium Addressing M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Virtual or effective address is offset into seg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Starting address plus offset gives linear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This goes through page translation if paging enabl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9 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addressing modes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Immedi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Register oper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Displac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Base with displac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Scaled index with displac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Base with index and displac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Base scaled index with displac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Rela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2D11-1A5B-4BBB-9EEC-BB130A4A60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entium Addressing Mode Calc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09640" y="1066680"/>
          <a:ext cx="747252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066680"/>
                    <a:ext cx="74725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3300-B2DF-4A8F-ACC0-21DCD36102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owerPC Addressing M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Load/store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Indir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Instruction includes 16 bit displacement to be added to base register (may be GP regis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Can replace base register content with new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Indirect index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Instruction references base register and index register (both may be G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EA is sum of cont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Branch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Absol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Rela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Indir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Operands in registers or part of instr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Floating point is register on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BD1F-5E43-4E2E-813A-8C5DDF81E5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owerPC Memory Operand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Addressing M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531800"/>
          <a:ext cx="8178840" cy="47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1800"/>
                    <a:ext cx="8178840" cy="47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4725-D510-4713-85FC-ECD4F761E2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struction Form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ayout of bits in an instr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cludes op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cludes (implicit or explicit) operand(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Usually more than one instruction format in an instruction 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4078-B2D3-45BC-9BA7-875CA8C93D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struction Leng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ffected by and affec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Memory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Memory orga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Bus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CPU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CPU sp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Trade off between powerful instruction repertoire and saving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7F45-9DD8-45E9-9F21-5CB2B60A2E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llocation of B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Number of addressing mo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Number of opera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versus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Number of register 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ress r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ress gran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A84E-71B2-4F03-ACF3-1D707CB6B4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entium Instruction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24000" y="1268280"/>
          <a:ext cx="8640720" cy="47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64072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292720" y="4221000"/>
            <a:ext cx="3095640" cy="1152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64000" y="4292640"/>
            <a:ext cx="432000" cy="1081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2276640"/>
            <a:ext cx="865080" cy="129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68360" y="2276640"/>
            <a:ext cx="1798920" cy="129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58E8-BF8A-4128-980F-A5DE3B899C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mmediate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338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perand is part of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perand = address f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.g. ADD AX, 5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DA  #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 5 to contents of accumul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5 is oper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No memory reference to fetch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Limited r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796000" y="2492280"/>
          <a:ext cx="300024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2492280"/>
                    <a:ext cx="300024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BB28-A5BB-45A3-948E-C42867560AA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DP-8 Instruction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7817" t="8753" r="9226" b="42401"/>
          <a:stretch/>
        </p:blipFill>
        <p:spPr>
          <a:xfrm>
            <a:off x="838080" y="1143000"/>
            <a:ext cx="7467840" cy="56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927E-DABC-48E2-9B61-A0D8544FD3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DP-10 Instruction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6512" t="11245" r="6651" b="73293"/>
          <a:stretch/>
        </p:blipFill>
        <p:spPr>
          <a:xfrm>
            <a:off x="380880" y="2112840"/>
            <a:ext cx="8458200" cy="116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210C-F5D5-45DE-A961-B458C4E980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DP-11 Instruction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23960" y="1066680"/>
          <a:ext cx="764532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066680"/>
                    <a:ext cx="76453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55AE-9775-4B20-AC4A-DF43C266D9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VAX Instruction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189160" y="1066680"/>
          <a:ext cx="471312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9160" y="1066680"/>
                    <a:ext cx="47131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D98B-B5E5-4A67-98FA-252406420F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owerPC Instruction Formats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8435" t="3256" r="14234" b="57604"/>
          <a:stretch/>
        </p:blipFill>
        <p:spPr>
          <a:xfrm>
            <a:off x="685800" y="1143000"/>
            <a:ext cx="7924680" cy="51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A4FC-0C60-43E3-9622-E9C595EEE4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owerPC Instruction Format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7817" t="29376" r="12042" b="9840"/>
          <a:stretch/>
        </p:blipFill>
        <p:spPr>
          <a:xfrm>
            <a:off x="1676520" y="1082520"/>
            <a:ext cx="5867280" cy="576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C793-4C8A-4D68-9300-C3BD327097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irect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ress field contains address of oper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ffective address EA = address field (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 AX,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Value DB 05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 contents of cell value to accumulator 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ook in memory at address value for oper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Single memory reference to access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No additional calculations to work out effective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Limited address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DA4A-34EB-40FB-A48D-01957E84E81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irect Address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50920" y="1700280"/>
          <a:ext cx="480852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700280"/>
                    <a:ext cx="48085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F64D-A0CC-4879-8A3D-3DA90A63166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direct Addressing (1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Memory cell pointed to by address field contains the address of (pointer to) the oper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(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ook in A, find address (A) and look there for oper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.g. ADD AX, (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 contents of cell pointed to by contents of A to accumul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6B13-FD1C-4740-BFF3-8014587C98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direct Addressing (2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arge address spac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Rounded MT Bold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 where n = word leng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May be nested, multilevel, casca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.g. EA = (((A)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raw the diagram yoursel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Multiple memory accesses to find oper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Hence slow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862F-685E-48E6-A227-37FE3FB3EB9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direct Address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63640" y="1628640"/>
          <a:ext cx="480852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480852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B2DC-3F5A-473F-8134-D44B996B3AF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Addressing (1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perand is held in register named in address fi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imited number of regis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Very small address field need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Shorter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Faster instruction fe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MOV AX, B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 AX, B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2F85-6783-43CB-BD2C-E509F99A234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8T09:28:37Z</dcterms:created>
  <dc:creator>Adrian &amp; Wendy</dc:creator>
  <dc:description/>
  <dc:language>en-US</dc:language>
  <cp:lastModifiedBy>Chao-Tung Yang</cp:lastModifiedBy>
  <dcterms:modified xsi:type="dcterms:W3CDTF">2006-05-11T08:04:32Z</dcterms:modified>
  <cp:revision>38</cp:revision>
  <dc:subject/>
  <dc:title>Addressing Modes</dc:title>
</cp:coreProperties>
</file>