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E8E7-8CE0-4CB3-84A3-049E2023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090-1EA3-411D-AEF5-2D5BC472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BA4-72D8-4B58-AE7F-00C423BF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9EB-0926-47E4-A905-21ABD544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0F7-CFAE-4C01-AD65-682A0BFF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463A-9E9A-4379-BDA7-EA1211BB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8D3-E43F-4C89-8FA1-FABABFE3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4B8-6966-461D-B690-286A1B74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3CF-2D20-4B54-A9C0-11ABF445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AED-4530-4D03-AF52-9604E226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093-B70B-4CB8-A4FB-459AE574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A5F-78C1-418E-A98E-00448BB3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D62D-322F-4152-A60D-6141A1E51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no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ventional microprogrammed computers each instruction fetched from main memory is interpreted by micro program stored in a single control memory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cro instructi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not directly issue the sig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control the hard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used to access a second control memory termed a nano control memory nCM,t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ly controls the hard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EVELS  OF CONTRO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controlled memory- higher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ocontrol memory(Nanoinstructions)-lower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838080" y="1295280"/>
            <a:ext cx="1447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16002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62120" y="2362320"/>
            <a:ext cx="17524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16002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85800" y="3657600"/>
            <a:ext cx="19051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instr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 flipV="1">
            <a:off x="380880" y="9907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380880" y="4648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1600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380880" y="990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160020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4952880" y="1371600"/>
            <a:ext cx="1447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4876920" y="2438280"/>
            <a:ext cx="17524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no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4800600" y="3733920"/>
            <a:ext cx="19051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noinstr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9"/>
          <p:cNvSpPr/>
          <p:nvPr/>
        </p:nvSpPr>
        <p:spPr>
          <a:xfrm>
            <a:off x="5715000" y="1828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571500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>
            <a:off x="2133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213372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3"/>
          <p:cNvSpPr/>
          <p:nvPr/>
        </p:nvSpPr>
        <p:spPr>
          <a:xfrm flipV="1">
            <a:off x="373392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4"/>
          <p:cNvSpPr/>
          <p:nvPr/>
        </p:nvSpPr>
        <p:spPr>
          <a:xfrm>
            <a:off x="3733920" y="914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5638680" y="914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6"/>
          <p:cNvSpPr/>
          <p:nvPr/>
        </p:nvSpPr>
        <p:spPr>
          <a:xfrm>
            <a:off x="60199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7"/>
          <p:cNvSpPr/>
          <p:nvPr/>
        </p:nvSpPr>
        <p:spPr>
          <a:xfrm>
            <a:off x="6019920" y="990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"/>
          <p:cNvSpPr/>
          <p:nvPr/>
        </p:nvSpPr>
        <p:spPr>
          <a:xfrm>
            <a:off x="7543800" y="9907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9"/>
          <p:cNvSpPr/>
          <p:nvPr/>
        </p:nvSpPr>
        <p:spPr>
          <a:xfrm>
            <a:off x="63244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0"/>
          <p:cNvSpPr/>
          <p:nvPr/>
        </p:nvSpPr>
        <p:spPr>
          <a:xfrm>
            <a:off x="6324480" y="4876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510552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533412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556272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4"/>
          <p:cNvSpPr/>
          <p:nvPr/>
        </p:nvSpPr>
        <p:spPr>
          <a:xfrm>
            <a:off x="5638680" y="4648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5"/>
          <p:cNvSpPr/>
          <p:nvPr/>
        </p:nvSpPr>
        <p:spPr>
          <a:xfrm>
            <a:off x="5791320" y="4648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6"/>
          <p:cNvSpPr/>
          <p:nvPr/>
        </p:nvSpPr>
        <p:spPr>
          <a:xfrm>
            <a:off x="5943600" y="4648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7"/>
          <p:cNvSpPr/>
          <p:nvPr/>
        </p:nvSpPr>
        <p:spPr>
          <a:xfrm>
            <a:off x="6095880" y="4648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8"/>
          <p:cNvSpPr/>
          <p:nvPr/>
        </p:nvSpPr>
        <p:spPr>
          <a:xfrm>
            <a:off x="198108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1676520" y="228600"/>
            <a:ext cx="2133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str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4648320" y="5105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685800" y="57913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Level control store organization for nano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no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croprograms are encoded in a narrow vertical forma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 large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m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o instructions have a highly parallel horizontal forma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 and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anocontrol memory is used it wi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the total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prov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er design flex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o programm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was first used in QM-1 compute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employed in more recent motorolla 68000 series of microproces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noprogram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no control memory nCM has a capacity of 1024 nano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no instructions are 360 bits l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o instruction addresses are generated by a nano program counter and nano instructions are placed in  a register n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address of nIR is directly ob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address is generated by either incrementing the nano program counter or loading it from external source(branch field or address from  micro instruction opc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6:20:38Z</dcterms:created>
  <dc:creator>it</dc:creator>
  <dc:description/>
  <dc:language>en-US</dc:language>
  <cp:lastModifiedBy>IT</cp:lastModifiedBy>
  <dcterms:modified xsi:type="dcterms:W3CDTF">2011-02-15T07:53:29Z</dcterms:modified>
  <cp:revision>13</cp:revision>
  <dc:subject/>
  <dc:title>Nanoprogramming</dc:title>
</cp:coreProperties>
</file>